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981F3-C84C-416D-B448-3F817B379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A1E5B-4FD5-4813-BEC1-9AA58E577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B8B0-D95A-4E18-9308-24DD92131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operability framework allows us to work in focused collaboration.  Focused collaboration means that we’re engaging a broad array of stakeholders in the development process, but managing their work property to ensure the most efficient and effective process.  What we don’t want to see is a high degree of focus (top down, heavy-handed government-driven process) with little participation from outside stakeholders; nor do we want a highly participatory process with no strong focus that results in a lot of great ideas, but no results.  We’re seeking the best of both wor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025D0-B407-40D6-A925-59FBF13F6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raphic illustrates a process by which we’ll engage a broad range of stakeholders to develop specifications and standards in an organized and efficient manner.  I’ll expand on each area in this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668EB-921D-48AA-8FF5-B9A4CA62A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F5B8-EE1B-4F2E-8E6D-A9E54D449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957B-639F-4026-BB8B-97058FCA6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615A-486A-46E2-9183-3F1F580E3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7963-9409-4EE1-87A4-C943E8CF7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B179-0AA4-45EF-B6D5-EABEC4736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0EDA-CA2B-4ECC-9C6C-F9B4D35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8956-2022-43A6-91BE-1E44032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68EC-17CC-484C-B243-2807104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5936-5F6A-4B89-91E6-628EEC3B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BC8D-9D8C-4D32-AC9D-7231D7EC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3509-D4C0-4EE7-A31D-04FE02B2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A060-8DFA-48EB-88B1-6BC45AADA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95E2-6168-4004-840C-5CAE3EA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EF00-62E2-4AE3-88E5-95D07DFA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3288-7F46-4716-984D-604A5D62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F285-D638-44D6-97A5-8AD20C8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ACEF-F5C9-4F8C-BA9B-12E3CEFA2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B37A-7F30-4EB6-BEB5-CAF4B494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F994-A96B-424C-AD51-9AFAC68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9A0-D1A2-43CD-8CCA-A29A3B3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2B23-A1C2-46EB-9826-3154D1A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F9A-C6C2-4CE7-806A-DFC4787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85F5-0956-49EA-B73F-B61D895391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DB4F-11F5-4675-970C-379C24D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E09-4A77-4889-81B8-F359184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8524-39D6-42C3-A5A0-62FE4E8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6AC5-485E-4A23-B4A9-5EFCA9B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F2C-8987-4E36-825B-D60D3D2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52B-F118-4274-B879-E90A5007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108-5B3F-4BC2-B324-2555C80F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5033-C06E-4DE9-A60C-FEBCF7A9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69DB-FF60-4C3A-9C23-C54E8644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8B86-4ADC-44C5-ABB9-E68217FD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7276-D44F-4C7B-BB11-9CE7736E5F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7EB8-EF27-4DB1-97FB-D3C1063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5E17-9451-4263-B39A-534E8E5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3D84-208C-473A-9DFC-E5F0DD23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5E6C-7285-4AFB-A0C8-2733B91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E10F-1D60-4DA0-ADD0-12825D8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D8FC-90C6-4404-908B-BEE4041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05C4-3483-4B4A-BFF7-81277239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5A44-5073-48F4-A0DD-C681303F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3E49-D928-45DE-A37B-23D2E5B6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7B39-403D-4366-9C3B-6AB7796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55DE-8746-4A28-96D0-3800D6ACA8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C95D-4D68-4E58-ADFD-938F3F64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5D15-0F6A-4F5C-A22D-1DF597FE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05B5-36F4-489D-9A96-820A78A4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E5F1-094B-43E5-A2E0-7235B040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D6DB-F695-4331-88D1-386938C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25B6-2499-4E9B-8E6E-BE45B4E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5407-819E-44E1-B6DE-FFD7FCA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8111-5035-4C36-B1E8-88A07FC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7634-B679-4394-A281-4D417B95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C3A2-1CD6-4B65-946D-A88BE3AA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3146-F047-459A-90AF-69551CF94D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227C-BFEE-4C0E-96D7-9E2BBA80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51BD-2EAB-4A0A-8DC8-7E92BE3B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38905-A640-4E03-882B-D1BFBF5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92E8-D0D1-4174-956C-D9621659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DD2B-AC14-4CDB-AB25-AD79C01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8BBE8-AB5C-40BE-B92F-F535EE93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AFDF-AED6-4127-B136-56FAFB3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72A5-79E7-4A3A-B1B0-EE45CFB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BDB7-716B-42EB-9194-5DF529A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6B53-AE08-439C-9A1D-967450E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D84E-C020-40E0-934F-47C3752B06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E45E-F497-4A5D-8F12-A0F4D9E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3707-D9C2-44FA-912C-A2BCF1CC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4EDE-AB74-4D29-85A4-3DEA65B2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DA58B-8A2F-4FFE-9087-943C6CC3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E16E9-5261-4FCE-9958-897E3BE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AC2A-A280-4605-B6F2-F1F8F81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52E6-E842-446E-846E-E0F8ACEE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D8DC8-692B-4C40-8B08-68124B43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9C49-A821-4EC9-8DA9-6A7DE2F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522C-41A3-4EF1-95DE-8983BAD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49A8-4384-4E02-A887-623ABD460F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B80F-C0A3-4888-B244-7020BE1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FDDD-85E8-4034-8F70-8D40956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57BE-843A-4CEB-A9E8-93AD71D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2779-ABD2-4039-8C21-F761D7DD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47FC-7BE5-44E3-BC77-0D8CEACE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BA25-ECD2-46EF-BBA9-4A43B2A8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AB3C-353A-4FA0-9460-57B9DE8C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D1ED2-C40D-49B0-9C26-D2AF4AB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55A3-39F1-4781-BFBB-FBCEEC7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56DB-6667-49D8-88ED-53546B89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CEC6-4B7F-44D2-A6B0-E91D06E3E1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9034-0DA3-4BEA-8CBA-2E2CA8B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9EC9-0788-4A8D-AA5B-7263A1E1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39C0-3DE7-4946-A50A-5674019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2318-D6AC-4111-A7AF-81D0D76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2083-18AE-4ECC-B020-0E47279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5F6C-DDC7-49A8-9F57-23961634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D087-9505-4252-9BC8-F39AB74E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D9E2F-6CB5-4096-9D7F-8B5E9221608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51920" cy="13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arrows.png"/>
          <p:cNvPicPr/>
          <p:nvPr/>
        </p:nvPicPr>
        <p:blipFill>
          <a:blip r:embed="rId3"/>
          <a:srcRect l="16941" t="0" r="0" b="0"/>
          <a:stretch/>
        </p:blipFill>
        <p:spPr>
          <a:xfrm>
            <a:off x="-6480" y="628560"/>
            <a:ext cx="1925640" cy="35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doctors.png"/>
          <p:cNvPicPr/>
          <p:nvPr/>
        </p:nvPicPr>
        <p:blipFill>
          <a:blip r:embed="rId4"/>
          <a:stretch/>
        </p:blipFill>
        <p:spPr>
          <a:xfrm>
            <a:off x="3032280" y="2698920"/>
            <a:ext cx="6122880" cy="4167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F5A82-414E-4EF5-9943-847AAAE1632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2044800" y="3532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DF77F-5679-4F0D-AF8F-A577A688A349}" type="datetime">
              <a:rPr b="0" lang="en-US" sz="1400" spc="-1" strike="noStrike">
                <a:solidFill>
                  <a:srgbClr val="595959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0C370-B869-446C-9A3E-93D26D8BE723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BDE72-2203-4BCE-812A-CBC1523B3B0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AE83-AF81-4DA5-9ED9-E54B99B082EC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5F574-09A0-46FC-9862-3960986CCDF1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85D9A-4092-4BA7-BFDF-5DC25BFDD950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2DCB1-6F92-4221-8CBA-FDCC686C749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A9576-0D6E-49B0-8539-31082A7ED2D4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E23AB-0905-4BDE-9784-C48DDD76A6F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6E00D-6F74-4F24-ABA6-01A47FAD69B0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47FEC-DBC1-4AC8-B1A0-9B9F674C7C9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7058-3858-46D0-8F14-1BC3BE02CA0C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F4B12-3DDD-437A-84C9-8576D8C58F9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25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25360" y="1704600"/>
            <a:ext cx="6057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1686c1"/>
                </a:solidFill>
                <a:latin typeface="Arial"/>
              </a:rPr>
              <a:t>Interoperability Framework Over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2044800" y="33894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March 24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217440" y="4859280"/>
            <a:ext cx="4586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Present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Douglas Fridsma, MD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Acting Director, Office of Interoperability &amp; Standards O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44440" y="2549160"/>
            <a:ext cx="476892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IT Standards Committee </a:t>
            </a:r>
            <a:endParaRPr b="0" lang="en-US" sz="2200" spc="-1" strike="noStrike">
              <a:solidFill>
                <a:srgbClr val="19234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874880" y="-360"/>
            <a:ext cx="5965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NIEM framework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A common core of concepts, explicitly defined, that are shared across different use cases or domai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Naming and modeling conventions that allow different groups to work independently but harmonize the work together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Based on the ISO-11179 metadata standard used by the NCI, NLM, and standards organizations. 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F7273-BF23-4CFB-9D77-D6561EB9C857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19"/>
          <p:cNvGrpSpPr/>
          <p:nvPr/>
        </p:nvGrpSpPr>
        <p:grpSpPr>
          <a:xfrm>
            <a:off x="299880" y="1744560"/>
            <a:ext cx="4067280" cy="4017960"/>
            <a:chOff x="299880" y="1744560"/>
            <a:chExt cx="4067280" cy="4017960"/>
          </a:xfrm>
        </p:grpSpPr>
        <p:pic>
          <p:nvPicPr>
            <p:cNvPr id="585" name="Picture 3" descr="Screen shot 2010-03-12 at 1.54.31 PM.png"/>
            <p:cNvPicPr/>
            <p:nvPr/>
          </p:nvPicPr>
          <p:blipFill>
            <a:blip r:embed="rId1"/>
            <a:stretch/>
          </p:blipFill>
          <p:spPr>
            <a:xfrm>
              <a:off x="299880" y="1744560"/>
              <a:ext cx="40672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4"/>
            <p:cNvSpPr/>
            <p:nvPr/>
          </p:nvSpPr>
          <p:spPr>
            <a:xfrm>
              <a:off x="1740960" y="2468160"/>
              <a:ext cx="79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ov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Box 5"/>
            <p:cNvSpPr/>
            <p:nvPr/>
          </p:nvSpPr>
          <p:spPr>
            <a:xfrm>
              <a:off x="2946960" y="3885840"/>
              <a:ext cx="73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6"/>
            <p:cNvSpPr/>
            <p:nvPr/>
          </p:nvSpPr>
          <p:spPr>
            <a:xfrm>
              <a:off x="509400" y="3789000"/>
              <a:ext cx="810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har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7"/>
            <p:cNvSpPr/>
            <p:nvPr/>
          </p:nvSpPr>
          <p:spPr>
            <a:xfrm>
              <a:off x="372240" y="3165120"/>
              <a:ext cx="116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 looku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8"/>
            <p:cNvSpPr/>
            <p:nvPr/>
          </p:nvSpPr>
          <p:spPr>
            <a:xfrm>
              <a:off x="3435840" y="3206520"/>
              <a:ext cx="764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mains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9"/>
            <p:cNvSpPr/>
            <p:nvPr/>
          </p:nvSpPr>
          <p:spPr>
            <a:xfrm>
              <a:off x="2586600" y="2692080"/>
              <a:ext cx="1005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rescrib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853920" y="2692080"/>
              <a:ext cx="78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 dat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726840" y="4520880"/>
              <a:ext cx="78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1492200" y="4833720"/>
              <a:ext cx="1233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summ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2649600" y="4400280"/>
              <a:ext cx="810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ild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mil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14"/>
            <p:cNvSpPr/>
            <p:nvPr/>
          </p:nvSpPr>
          <p:spPr>
            <a:xfrm>
              <a:off x="1775520" y="3638160"/>
              <a:ext cx="74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ounded Rectangle 17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7" descr="harmonize.png"/>
          <p:cNvPicPr/>
          <p:nvPr/>
        </p:nvPicPr>
        <p:blipFill>
          <a:blip r:embed="rId2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3" descr=""/>
          <p:cNvPicPr/>
          <p:nvPr/>
        </p:nvPicPr>
        <p:blipFill>
          <a:blip r:embed="rId1"/>
          <a:stretch/>
        </p:blipFill>
        <p:spPr>
          <a:xfrm>
            <a:off x="1944720" y="2111400"/>
            <a:ext cx="4699080" cy="34513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itional services and tools for harm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669960" y="67658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7488F-C48E-44FD-9639-626EFEEC04EF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ight Arrow 4"/>
          <p:cNvSpPr/>
          <p:nvPr/>
        </p:nvSpPr>
        <p:spPr>
          <a:xfrm rot="19793400">
            <a:off x="6183000" y="2022120"/>
            <a:ext cx="801720" cy="533520"/>
          </a:xfrm>
          <a:prstGeom prst="rightArrow">
            <a:avLst>
              <a:gd name="adj1" fmla="val 50000"/>
              <a:gd name="adj2" fmla="val 49964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8006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7029360" y="1044720"/>
            <a:ext cx="1447920" cy="9903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 Case Model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629400" y="5880240"/>
            <a:ext cx="1447920" cy="914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nMDR Based Meta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ight Arrow 7"/>
          <p:cNvSpPr/>
          <p:nvPr/>
        </p:nvSpPr>
        <p:spPr>
          <a:xfrm rot="1661400">
            <a:off x="6269040" y="5191200"/>
            <a:ext cx="900000" cy="442800"/>
          </a:xfrm>
          <a:prstGeom prst="rightArrow">
            <a:avLst>
              <a:gd name="adj1" fmla="val 50000"/>
              <a:gd name="adj2" fmla="val 4991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4538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8"/>
          <p:cNvSpPr/>
          <p:nvPr/>
        </p:nvSpPr>
        <p:spPr>
          <a:xfrm rot="7533000">
            <a:off x="2186640" y="1865880"/>
            <a:ext cx="654120" cy="985680"/>
          </a:xfrm>
          <a:prstGeom prst="downArrow">
            <a:avLst>
              <a:gd name="adj1" fmla="val 50000"/>
              <a:gd name="adj2" fmla="val 50062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867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704880" y="1120680"/>
            <a:ext cx="1371600" cy="914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762120" y="5880240"/>
            <a:ext cx="1523880" cy="838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xGrid Based Vocabulary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ight Arrow 11"/>
          <p:cNvSpPr/>
          <p:nvPr/>
        </p:nvSpPr>
        <p:spPr>
          <a:xfrm rot="8265000">
            <a:off x="2215440" y="5329080"/>
            <a:ext cx="834840" cy="533520"/>
          </a:xfrm>
          <a:prstGeom prst="right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7938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96"/>
          <p:cNvGrpSpPr/>
          <p:nvPr/>
        </p:nvGrpSpPr>
        <p:grpSpPr>
          <a:xfrm>
            <a:off x="7257960" y="2187720"/>
            <a:ext cx="1143000" cy="914400"/>
            <a:chOff x="7257960" y="2187720"/>
            <a:chExt cx="1143000" cy="914400"/>
          </a:xfrm>
        </p:grpSpPr>
        <p:sp>
          <p:nvSpPr>
            <p:cNvPr id="611" name="Rounded Rectangle 13"/>
            <p:cNvSpPr/>
            <p:nvPr/>
          </p:nvSpPr>
          <p:spPr>
            <a:xfrm>
              <a:off x="7257960" y="2311560"/>
              <a:ext cx="1143000" cy="7905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Picture 87" descr="folder.png"/>
            <p:cNvPicPr/>
            <p:nvPr/>
          </p:nvPicPr>
          <p:blipFill>
            <a:blip r:embed="rId2"/>
            <a:stretch/>
          </p:blipFill>
          <p:spPr>
            <a:xfrm>
              <a:off x="7597440" y="2187720"/>
              <a:ext cx="29448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99"/>
          <p:cNvGrpSpPr/>
          <p:nvPr/>
        </p:nvGrpSpPr>
        <p:grpSpPr>
          <a:xfrm>
            <a:off x="3962520" y="5956200"/>
            <a:ext cx="1447560" cy="887400"/>
            <a:chOff x="3962520" y="5956200"/>
            <a:chExt cx="1447560" cy="887400"/>
          </a:xfrm>
        </p:grpSpPr>
        <p:sp>
          <p:nvSpPr>
            <p:cNvPr id="614" name="Rounded Rectangle 16"/>
            <p:cNvSpPr/>
            <p:nvPr/>
          </p:nvSpPr>
          <p:spPr>
            <a:xfrm>
              <a:off x="3962520" y="6021000"/>
              <a:ext cx="144756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Core Concep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90" descr="harmonize.png"/>
            <p:cNvPicPr/>
            <p:nvPr/>
          </p:nvPicPr>
          <p:blipFill>
            <a:blip r:embed="rId3"/>
            <a:stretch/>
          </p:blipFill>
          <p:spPr>
            <a:xfrm>
              <a:off x="4439520" y="5956200"/>
              <a:ext cx="47700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Right Arrow 18"/>
          <p:cNvSpPr/>
          <p:nvPr/>
        </p:nvSpPr>
        <p:spPr>
          <a:xfrm>
            <a:off x="5543640" y="61182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246aa2"/>
          </a:solidFill>
          <a:ln w="25560">
            <a:solidFill>
              <a:srgbClr val="174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ight Arrow 19"/>
          <p:cNvSpPr/>
          <p:nvPr/>
        </p:nvSpPr>
        <p:spPr>
          <a:xfrm rot="10800000">
            <a:off x="2895480" y="61088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46aa2"/>
          </a:solidFill>
          <a:ln w="25560">
            <a:solidFill>
              <a:srgbClr val="174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00"/>
          <p:cNvGrpSpPr/>
          <p:nvPr/>
        </p:nvGrpSpPr>
        <p:grpSpPr>
          <a:xfrm>
            <a:off x="857160" y="2416320"/>
            <a:ext cx="1212840" cy="852480"/>
            <a:chOff x="857160" y="2416320"/>
            <a:chExt cx="1212840" cy="852480"/>
          </a:xfrm>
        </p:grpSpPr>
        <p:sp>
          <p:nvSpPr>
            <p:cNvPr id="619" name="Rounded Rectangle 21"/>
            <p:cNvSpPr/>
            <p:nvPr/>
          </p:nvSpPr>
          <p:spPr>
            <a:xfrm>
              <a:off x="857160" y="244620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Picture 91" descr="Screen shot 2010-03-10 at 2.04.54 PM.png"/>
            <p:cNvPicPr/>
            <p:nvPr/>
          </p:nvPicPr>
          <p:blipFill>
            <a:blip r:embed="rId4"/>
            <a:stretch/>
          </p:blipFill>
          <p:spPr>
            <a:xfrm>
              <a:off x="1259280" y="241632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ards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Gaps in existing standard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Data packag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Value se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an be identified as part of the use case development and harmonization process 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Work with SDOs (NLM, HL7 etc) to fill in gap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Allows the standards work to proceed in parallel with development of the implementation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16A8A-ED16-4AD9-8A36-F8266143CDC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Straight Arrow Connector 4"/>
          <p:cNvCxnSpPr>
            <a:stCxn id="625" idx="3"/>
            <a:endCxn id="62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27" name="Straight Arrow Connector 5"/>
          <p:cNvCxnSpPr>
            <a:stCxn id="626" idx="3"/>
            <a:endCxn id="62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29" name="Straight Arrow Connector 6"/>
          <p:cNvCxnSpPr>
            <a:stCxn id="628" idx="3"/>
            <a:endCxn id="63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31" name="Straight Arrow Connector 7"/>
          <p:cNvCxnSpPr>
            <a:stCxn id="630" idx="3"/>
            <a:endCxn id="63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33" name="Straight Arrow Connector 8"/>
          <p:cNvCxnSpPr>
            <a:stCxn id="63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35" name="Straight Arrow Connector 9"/>
          <p:cNvCxnSpPr>
            <a:stCxn id="63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2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3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3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2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2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63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3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644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ndar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7" descr="tools.png"/>
          <p:cNvPicPr/>
          <p:nvPr/>
        </p:nvPicPr>
        <p:blipFill>
          <a:blip r:embed="rId8"/>
          <a:stretch/>
        </p:blipFill>
        <p:spPr>
          <a:xfrm>
            <a:off x="698400" y="25560"/>
            <a:ext cx="381240" cy="3999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47" name="Rounded Rectangle 52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Straight Arrow Connector 53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9" name="Straight Arrow Connector 54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0" name="Straight Arrow Connector 55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1" name="Straight Arrow Connector 56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2" name="Straight Arrow Connector 57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Specif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f the standards, services and policies are 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ingredients</a:t>
            </a: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, then the implementation specification is 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recip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Packaged together to support use ca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Guides development of reference implement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nterim Final Rule requires creation of Implementation Specifications where they don’t exist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72E36-D8D0-456A-B796-FB93980F861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Straight Arrow Connector 4"/>
          <p:cNvCxnSpPr>
            <a:stCxn id="657" idx="3"/>
            <a:endCxn id="658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59" name="Straight Arrow Connector 5"/>
          <p:cNvCxnSpPr>
            <a:stCxn id="658" idx="3"/>
            <a:endCxn id="660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1" name="Straight Arrow Connector 6"/>
          <p:cNvCxnSpPr>
            <a:stCxn id="660" idx="3"/>
            <a:endCxn id="662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3" name="Straight Arrow Connector 7"/>
          <p:cNvCxnSpPr>
            <a:stCxn id="662" idx="3"/>
            <a:endCxn id="664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5" name="Straight Arrow Connector 8"/>
          <p:cNvCxnSpPr>
            <a:stCxn id="666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67" name="Straight Arrow Connector 9"/>
          <p:cNvCxnSpPr>
            <a:stCxn id="668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57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66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64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58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60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668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62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676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lementatio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7" descr="Screen shot 2010-03-10 at 2.04.54 PM.png"/>
          <p:cNvPicPr/>
          <p:nvPr/>
        </p:nvPicPr>
        <p:blipFill>
          <a:blip r:embed="rId8"/>
          <a:stretch/>
        </p:blipFill>
        <p:spPr>
          <a:xfrm>
            <a:off x="698400" y="88920"/>
            <a:ext cx="387360" cy="3063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An implementation specification becomes a explicit description of th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olicies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That conform to adopted standards and have sufficient detail to be implemented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79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Specification must be tested to make sure they are implementabl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an be used by others to help guide their own implementation or find problems with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Encourages feedback to ONC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B3EB3-4E64-43A0-A4A5-0DDA5F8CE53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Straight Arrow Connector 4"/>
          <p:cNvCxnSpPr>
            <a:stCxn id="689" idx="3"/>
            <a:endCxn id="690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1" name="Straight Arrow Connector 5"/>
          <p:cNvCxnSpPr>
            <a:stCxn id="690" idx="3"/>
            <a:endCxn id="692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3" name="Straight Arrow Connector 6"/>
          <p:cNvCxnSpPr>
            <a:stCxn id="692" idx="3"/>
            <a:endCxn id="694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5" name="Straight Arrow Connector 7"/>
          <p:cNvCxnSpPr>
            <a:stCxn id="694" idx="3"/>
            <a:endCxn id="696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7" name="Straight Arrow Connector 8"/>
          <p:cNvCxnSpPr>
            <a:stCxn id="698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99" name="Straight Arrow Connector 9"/>
          <p:cNvCxnSpPr>
            <a:stCxn id="700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89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98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96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90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92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00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94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08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9" descr="check.png"/>
          <p:cNvPicPr/>
          <p:nvPr/>
        </p:nvPicPr>
        <p:blipFill>
          <a:blip r:embed="rId8"/>
          <a:stretch/>
        </p:blipFill>
        <p:spPr>
          <a:xfrm>
            <a:off x="711360" y="27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Example: CONNECT software could potentially be the reference implementation of NHIN specifications and standard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1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3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4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5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6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Reference implementation in use by stakeholder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onfirms use case is being supported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ONC should provide coordination of pilot demonstr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AE481-7D01-4DAB-8E8E-576991152E7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"/>
          <p:cNvCxnSpPr>
            <a:stCxn id="721" idx="3"/>
            <a:endCxn id="722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3" name="Straight Arrow Connector 5"/>
          <p:cNvCxnSpPr>
            <a:stCxn id="722" idx="3"/>
            <a:endCxn id="724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5" name="Straight Arrow Connector 6"/>
          <p:cNvCxnSpPr>
            <a:stCxn id="724" idx="3"/>
            <a:endCxn id="726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7" name="Straight Arrow Connector 7"/>
          <p:cNvCxnSpPr>
            <a:stCxn id="726" idx="3"/>
            <a:endCxn id="728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9" name="Straight Arrow Connector 8"/>
          <p:cNvCxnSpPr>
            <a:stCxn id="730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31" name="Straight Arrow Connector 9"/>
          <p:cNvCxnSpPr>
            <a:stCxn id="732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21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30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28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24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32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26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40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7" descr="pilot.png"/>
          <p:cNvPicPr/>
          <p:nvPr/>
        </p:nvPicPr>
        <p:blipFill>
          <a:blip r:embed="rId8"/>
          <a:stretch/>
        </p:blipFill>
        <p:spPr>
          <a:xfrm>
            <a:off x="635040" y="-20520"/>
            <a:ext cx="457200" cy="4521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Trial Implement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Limited Production Exchang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Direct Projec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43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5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6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7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8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rtification and Tes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ulmination of prior activiti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NIST can help create test harnesses to ensure conformance with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73AAF-1BB8-4B08-93A2-8838B3F0F84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Straight Arrow Connector 4"/>
          <p:cNvCxnSpPr>
            <a:stCxn id="753" idx="3"/>
            <a:endCxn id="754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5" name="Straight Arrow Connector 5"/>
          <p:cNvCxnSpPr>
            <a:stCxn id="754" idx="3"/>
            <a:endCxn id="756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7" name="Straight Arrow Connector 6"/>
          <p:cNvCxnSpPr>
            <a:stCxn id="756" idx="3"/>
            <a:endCxn id="758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9" name="Straight Arrow Connector 7"/>
          <p:cNvCxnSpPr>
            <a:stCxn id="758" idx="3"/>
            <a:endCxn id="760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61" name="Straight Arrow Connector 8"/>
          <p:cNvCxnSpPr>
            <a:stCxn id="762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63" name="Straight Arrow Connector 9"/>
          <p:cNvCxnSpPr>
            <a:stCxn id="764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53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62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60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54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56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64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72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rtificatio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d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47" descr="computer.png"/>
          <p:cNvPicPr/>
          <p:nvPr/>
        </p:nvPicPr>
        <p:blipFill>
          <a:blip r:embed="rId8"/>
          <a:stretch/>
        </p:blipFill>
        <p:spPr>
          <a:xfrm>
            <a:off x="647640" y="0"/>
            <a:ext cx="471600" cy="4111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IST Conformance tool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Tools and resources for certification process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75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7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8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9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0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s and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Make the process as automated and self-serve as possibl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Leverage tools &amp; services in future effor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09AB-CBBE-4008-8892-9F0A88685799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Straight Arrow Connector 4"/>
          <p:cNvCxnSpPr>
            <a:stCxn id="785" idx="3"/>
            <a:endCxn id="78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87" name="Straight Arrow Connector 5"/>
          <p:cNvCxnSpPr>
            <a:stCxn id="786" idx="3"/>
            <a:endCxn id="78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89" name="Straight Arrow Connector 6"/>
          <p:cNvCxnSpPr>
            <a:stCxn id="788" idx="3"/>
            <a:endCxn id="79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91" name="Straight Arrow Connector 7"/>
          <p:cNvCxnSpPr>
            <a:stCxn id="790" idx="3"/>
            <a:endCxn id="79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93" name="Straight Arrow Connector 8"/>
          <p:cNvCxnSpPr>
            <a:stCxn id="79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95" name="Straight Arrow Connector 9"/>
          <p:cNvCxnSpPr>
            <a:stCxn id="79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97" name="Rounded Rectangle 17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9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9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8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8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9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9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cxnSp>
        <p:nvCxnSpPr>
          <p:cNvPr id="806" name="Straight Arrow Connector 46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7" name="Straight Arrow Connector 47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8" name="Straight Arrow Connector 48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9" name="Straight Arrow Connector 49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0" name="Straight Arrow Connector 50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Innovation within 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2" name="Straight Arrow Connector 4"/>
          <p:cNvCxnSpPr/>
          <p:nvPr/>
        </p:nvCxnSpPr>
        <p:spPr>
          <a:xfrm>
            <a:off x="2011320" y="3322800"/>
            <a:ext cx="24984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3" name="Straight Arrow Connector 5"/>
          <p:cNvCxnSpPr/>
          <p:nvPr/>
        </p:nvCxnSpPr>
        <p:spPr>
          <a:xfrm>
            <a:off x="3708360" y="3322800"/>
            <a:ext cx="32472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4" name="Straight Arrow Connector 6"/>
          <p:cNvCxnSpPr/>
          <p:nvPr/>
        </p:nvCxnSpPr>
        <p:spPr>
          <a:xfrm>
            <a:off x="5244840" y="3322800"/>
            <a:ext cx="43092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5" name="Straight Arrow Connector 7"/>
          <p:cNvCxnSpPr/>
          <p:nvPr/>
        </p:nvCxnSpPr>
        <p:spPr>
          <a:xfrm>
            <a:off x="6887880" y="3322800"/>
            <a:ext cx="40860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6" name="Straight Arrow Connector 8"/>
          <p:cNvCxnSpPr/>
          <p:nvPr/>
        </p:nvCxnSpPr>
        <p:spPr>
          <a:xfrm flipH="1">
            <a:off x="2980440" y="2512800"/>
            <a:ext cx="2520" cy="3067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7" name="Straight Arrow Connector 9"/>
          <p:cNvCxnSpPr/>
          <p:nvPr/>
        </p:nvCxnSpPr>
        <p:spPr>
          <a:xfrm flipH="1">
            <a:off x="6284160" y="2513160"/>
            <a:ext cx="3960" cy="35784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818" name="Rounded Rectangle 17"/>
          <p:cNvSpPr/>
          <p:nvPr/>
        </p:nvSpPr>
        <p:spPr>
          <a:xfrm>
            <a:off x="757080" y="4890960"/>
            <a:ext cx="76392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1000"/>
            </a:br>
            <a:r>
              <a:rPr b="1" lang="en-US" sz="10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Straight Arrow Connector 18"/>
          <p:cNvCxnSpPr/>
          <p:nvPr/>
        </p:nvCxnSpPr>
        <p:spPr>
          <a:xfrm flipH="1">
            <a:off x="4637880" y="3735360"/>
            <a:ext cx="2520" cy="115632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0" name="Straight Arrow Connector 19"/>
          <p:cNvCxnSpPr/>
          <p:nvPr/>
        </p:nvCxnSpPr>
        <p:spPr>
          <a:xfrm>
            <a:off x="1280160" y="3733920"/>
            <a:ext cx="108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1" name="Straight Arrow Connector 20"/>
          <p:cNvCxnSpPr/>
          <p:nvPr/>
        </p:nvCxnSpPr>
        <p:spPr>
          <a:xfrm flipH="1">
            <a:off x="2979360" y="3735360"/>
            <a:ext cx="2160" cy="115632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2" name="Straight Arrow Connector 21"/>
          <p:cNvCxnSpPr/>
          <p:nvPr/>
        </p:nvCxnSpPr>
        <p:spPr>
          <a:xfrm>
            <a:off x="6287040" y="3733920"/>
            <a:ext cx="108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3" name="Straight Arrow Connector 22"/>
          <p:cNvCxnSpPr/>
          <p:nvPr/>
        </p:nvCxnSpPr>
        <p:spPr>
          <a:xfrm flipH="1">
            <a:off x="7900200" y="3735360"/>
            <a:ext cx="396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9"/>
          <p:cNvSpPr/>
          <p:nvPr/>
        </p:nvSpPr>
        <p:spPr>
          <a:xfrm>
            <a:off x="1459080" y="412092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nformation Model, Services, and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Value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51"/>
          <p:cNvSpPr/>
          <p:nvPr/>
        </p:nvSpPr>
        <p:spPr>
          <a:xfrm>
            <a:off x="2982960" y="412092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Harmonize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mplementation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Spec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52"/>
          <p:cNvSpPr/>
          <p:nvPr/>
        </p:nvSpPr>
        <p:spPr>
          <a:xfrm>
            <a:off x="6461280" y="4197240"/>
            <a:ext cx="13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ntegration Testing and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54"/>
          <p:cNvSpPr/>
          <p:nvPr/>
        </p:nvSpPr>
        <p:spPr>
          <a:xfrm>
            <a:off x="4829040" y="4196520"/>
            <a:ext cx="130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Reference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Code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31"/>
          <p:cNvCxnSpPr/>
          <p:nvPr/>
        </p:nvCxnSpPr>
        <p:spPr>
          <a:xfrm>
            <a:off x="2742840" y="4378320"/>
            <a:ext cx="47556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9" name="Straight Arrow Connector 32"/>
          <p:cNvCxnSpPr/>
          <p:nvPr/>
        </p:nvCxnSpPr>
        <p:spPr>
          <a:xfrm>
            <a:off x="4347720" y="4378320"/>
            <a:ext cx="58356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30" name="Straight Arrow Connector 33"/>
          <p:cNvCxnSpPr/>
          <p:nvPr/>
        </p:nvCxnSpPr>
        <p:spPr>
          <a:xfrm>
            <a:off x="6029280" y="4378320"/>
            <a:ext cx="46584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831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1D710-F051-4ADC-9BE7-096421369A3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8" descr="Screen shot 2010-03-10 at 1.42.30 PM.png"/>
          <p:cNvPicPr/>
          <p:nvPr/>
        </p:nvPicPr>
        <p:blipFill>
          <a:blip r:embed="rId1"/>
          <a:stretch/>
        </p:blipFill>
        <p:spPr>
          <a:xfrm>
            <a:off x="236232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9" descr="Screen shot 2010-03-10 at 1.42.19 PM.png"/>
          <p:cNvPicPr/>
          <p:nvPr/>
        </p:nvPicPr>
        <p:blipFill>
          <a:blip r:embed="rId2"/>
          <a:stretch/>
        </p:blipFill>
        <p:spPr>
          <a:xfrm>
            <a:off x="1770120" y="3813120"/>
            <a:ext cx="177840" cy="27000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96"/>
          <p:cNvGrpSpPr/>
          <p:nvPr/>
        </p:nvGrpSpPr>
        <p:grpSpPr>
          <a:xfrm>
            <a:off x="507960" y="2751120"/>
            <a:ext cx="1503360" cy="982800"/>
            <a:chOff x="507960" y="2751120"/>
            <a:chExt cx="1503360" cy="982800"/>
          </a:xfrm>
        </p:grpSpPr>
        <p:sp>
          <p:nvSpPr>
            <p:cNvPr id="835" name="Rounded Rectangle 10"/>
            <p:cNvSpPr/>
            <p:nvPr/>
          </p:nvSpPr>
          <p:spPr>
            <a:xfrm>
              <a:off x="507960" y="2911320"/>
              <a:ext cx="150336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87" descr="folder.png"/>
            <p:cNvPicPr/>
            <p:nvPr/>
          </p:nvPicPr>
          <p:blipFill>
            <a:blip r:embed="rId3"/>
            <a:stretch/>
          </p:blipFill>
          <p:spPr>
            <a:xfrm>
              <a:off x="1023480" y="2751120"/>
              <a:ext cx="44712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Group 97"/>
          <p:cNvGrpSpPr/>
          <p:nvPr/>
        </p:nvGrpSpPr>
        <p:grpSpPr>
          <a:xfrm>
            <a:off x="2362320" y="1587600"/>
            <a:ext cx="1212840" cy="923760"/>
            <a:chOff x="2362320" y="1587600"/>
            <a:chExt cx="1212840" cy="923760"/>
          </a:xfrm>
        </p:grpSpPr>
        <p:sp>
          <p:nvSpPr>
            <p:cNvPr id="838" name="Rounded Rectangle 15"/>
            <p:cNvSpPr/>
            <p:nvPr/>
          </p:nvSpPr>
          <p:spPr>
            <a:xfrm>
              <a:off x="2362320" y="1687320"/>
              <a:ext cx="121284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Standard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Picture 88" descr="tools.png"/>
            <p:cNvPicPr/>
            <p:nvPr/>
          </p:nvPicPr>
          <p:blipFill>
            <a:blip r:embed="rId4"/>
            <a:stretch/>
          </p:blipFill>
          <p:spPr>
            <a:xfrm>
              <a:off x="2784960" y="1587600"/>
              <a:ext cx="390240" cy="40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02"/>
          <p:cNvGrpSpPr/>
          <p:nvPr/>
        </p:nvGrpSpPr>
        <p:grpSpPr>
          <a:xfrm>
            <a:off x="7296120" y="2801880"/>
            <a:ext cx="1212840" cy="932040"/>
            <a:chOff x="7296120" y="2801880"/>
            <a:chExt cx="1212840" cy="932040"/>
          </a:xfrm>
        </p:grpSpPr>
        <p:sp>
          <p:nvSpPr>
            <p:cNvPr id="841" name="Rounded Rectangle 14"/>
            <p:cNvSpPr/>
            <p:nvPr/>
          </p:nvSpPr>
          <p:spPr>
            <a:xfrm>
              <a:off x="729612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ertification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89" descr="computer.png"/>
            <p:cNvPicPr/>
            <p:nvPr/>
          </p:nvPicPr>
          <p:blipFill>
            <a:blip r:embed="rId5"/>
            <a:stretch/>
          </p:blipFill>
          <p:spPr>
            <a:xfrm>
              <a:off x="7688160" y="2801880"/>
              <a:ext cx="4446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99"/>
          <p:cNvGrpSpPr/>
          <p:nvPr/>
        </p:nvGrpSpPr>
        <p:grpSpPr>
          <a:xfrm>
            <a:off x="2260440" y="2846520"/>
            <a:ext cx="1447920" cy="887400"/>
            <a:chOff x="2260440" y="2846520"/>
            <a:chExt cx="1447920" cy="887400"/>
          </a:xfrm>
        </p:grpSpPr>
        <p:sp>
          <p:nvSpPr>
            <p:cNvPr id="844" name="Rounded Rectangle 11"/>
            <p:cNvSpPr/>
            <p:nvPr/>
          </p:nvSpPr>
          <p:spPr>
            <a:xfrm>
              <a:off x="2260440" y="2911320"/>
              <a:ext cx="144792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ore Concepts (NIEM framewor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90" descr="harmonize.png"/>
            <p:cNvPicPr/>
            <p:nvPr/>
          </p:nvPicPr>
          <p:blipFill>
            <a:blip r:embed="rId6"/>
            <a:stretch/>
          </p:blipFill>
          <p:spPr>
            <a:xfrm>
              <a:off x="2737440" y="2846520"/>
              <a:ext cx="47736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100"/>
          <p:cNvGrpSpPr/>
          <p:nvPr/>
        </p:nvGrpSpPr>
        <p:grpSpPr>
          <a:xfrm>
            <a:off x="4032360" y="2881440"/>
            <a:ext cx="1212840" cy="852480"/>
            <a:chOff x="4032360" y="2881440"/>
            <a:chExt cx="1212840" cy="852480"/>
          </a:xfrm>
        </p:grpSpPr>
        <p:sp>
          <p:nvSpPr>
            <p:cNvPr id="847" name="Rounded Rectangle 12"/>
            <p:cNvSpPr/>
            <p:nvPr/>
          </p:nvSpPr>
          <p:spPr>
            <a:xfrm>
              <a:off x="403236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91" descr="Screen shot 2010-03-10 at 2.04.54 PM.png"/>
            <p:cNvPicPr/>
            <p:nvPr/>
          </p:nvPicPr>
          <p:blipFill>
            <a:blip r:embed="rId7"/>
            <a:stretch/>
          </p:blipFill>
          <p:spPr>
            <a:xfrm>
              <a:off x="4434480" y="288144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Group 98"/>
          <p:cNvGrpSpPr/>
          <p:nvPr/>
        </p:nvGrpSpPr>
        <p:grpSpPr>
          <a:xfrm>
            <a:off x="5578560" y="1541520"/>
            <a:ext cx="1406520" cy="969840"/>
            <a:chOff x="5578560" y="1541520"/>
            <a:chExt cx="1406520" cy="969840"/>
          </a:xfrm>
        </p:grpSpPr>
        <p:sp>
          <p:nvSpPr>
            <p:cNvPr id="850" name="Rounded Rectangle 16"/>
            <p:cNvSpPr/>
            <p:nvPr/>
          </p:nvSpPr>
          <p:spPr>
            <a:xfrm>
              <a:off x="5578560" y="1687320"/>
              <a:ext cx="140652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Pilot Demonstration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1" name="Picture 93" descr="pilot.png"/>
            <p:cNvPicPr/>
            <p:nvPr/>
          </p:nvPicPr>
          <p:blipFill>
            <a:blip r:embed="rId8"/>
            <a:stretch/>
          </p:blipFill>
          <p:spPr>
            <a:xfrm>
              <a:off x="6063480" y="1541520"/>
              <a:ext cx="476280" cy="47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2" name="Group 101"/>
          <p:cNvGrpSpPr/>
          <p:nvPr/>
        </p:nvGrpSpPr>
        <p:grpSpPr>
          <a:xfrm>
            <a:off x="5675400" y="2870280"/>
            <a:ext cx="1212840" cy="863640"/>
            <a:chOff x="5675400" y="2870280"/>
            <a:chExt cx="1212840" cy="863640"/>
          </a:xfrm>
        </p:grpSpPr>
        <p:sp>
          <p:nvSpPr>
            <p:cNvPr id="853" name="Rounded Rectangle 13"/>
            <p:cNvSpPr/>
            <p:nvPr/>
          </p:nvSpPr>
          <p:spPr>
            <a:xfrm>
              <a:off x="567540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Reference Implem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4" name="Picture 94" descr="check.png"/>
            <p:cNvPicPr/>
            <p:nvPr/>
          </p:nvPicPr>
          <p:blipFill>
            <a:blip r:embed="rId9"/>
            <a:stretch/>
          </p:blipFill>
          <p:spPr>
            <a:xfrm>
              <a:off x="6121080" y="2870280"/>
              <a:ext cx="327600" cy="32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5" name="Picture 51" descr="Document.png"/>
          <p:cNvPicPr/>
          <p:nvPr/>
        </p:nvPicPr>
        <p:blipFill>
          <a:blip r:embed="rId10"/>
          <a:stretch/>
        </p:blipFill>
        <p:spPr>
          <a:xfrm>
            <a:off x="205740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8" descr="Screen shot 2010-03-10 at 1.42.30 PM.png"/>
          <p:cNvPicPr/>
          <p:nvPr/>
        </p:nvPicPr>
        <p:blipFill>
          <a:blip r:embed="rId11"/>
          <a:stretch/>
        </p:blipFill>
        <p:spPr>
          <a:xfrm>
            <a:off x="4038480" y="3803760"/>
            <a:ext cx="198720" cy="279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9" descr="Screen shot 2010-03-10 at 1.42.19 PM.png"/>
          <p:cNvPicPr/>
          <p:nvPr/>
        </p:nvPicPr>
        <p:blipFill>
          <a:blip r:embed="rId12"/>
          <a:stretch/>
        </p:blipFill>
        <p:spPr>
          <a:xfrm>
            <a:off x="3446640" y="3813120"/>
            <a:ext cx="177480" cy="270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54" descr="Document.png"/>
          <p:cNvPicPr/>
          <p:nvPr/>
        </p:nvPicPr>
        <p:blipFill>
          <a:blip r:embed="rId13"/>
          <a:stretch/>
        </p:blipFill>
        <p:spPr>
          <a:xfrm>
            <a:off x="373392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8" descr="Screen shot 2010-03-10 at 1.42.30 PM.png"/>
          <p:cNvPicPr/>
          <p:nvPr/>
        </p:nvPicPr>
        <p:blipFill>
          <a:blip r:embed="rId14"/>
          <a:stretch/>
        </p:blipFill>
        <p:spPr>
          <a:xfrm>
            <a:off x="571500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69" descr="Screen shot 2010-03-10 at 1.42.19 PM.png"/>
          <p:cNvPicPr/>
          <p:nvPr/>
        </p:nvPicPr>
        <p:blipFill>
          <a:blip r:embed="rId15"/>
          <a:stretch/>
        </p:blipFill>
        <p:spPr>
          <a:xfrm>
            <a:off x="5122800" y="3813120"/>
            <a:ext cx="177840" cy="2700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57" descr="Document.png"/>
          <p:cNvPicPr/>
          <p:nvPr/>
        </p:nvPicPr>
        <p:blipFill>
          <a:blip r:embed="rId16"/>
          <a:stretch/>
        </p:blipFill>
        <p:spPr>
          <a:xfrm>
            <a:off x="541008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8" descr="Screen shot 2010-03-10 at 1.42.30 PM.png"/>
          <p:cNvPicPr/>
          <p:nvPr/>
        </p:nvPicPr>
        <p:blipFill>
          <a:blip r:embed="rId17"/>
          <a:stretch/>
        </p:blipFill>
        <p:spPr>
          <a:xfrm>
            <a:off x="732780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9" descr="Screen shot 2010-03-10 at 1.42.19 PM.png"/>
          <p:cNvPicPr/>
          <p:nvPr/>
        </p:nvPicPr>
        <p:blipFill>
          <a:blip r:embed="rId18"/>
          <a:stretch/>
        </p:blipFill>
        <p:spPr>
          <a:xfrm>
            <a:off x="6735600" y="3813120"/>
            <a:ext cx="177840" cy="2700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0" descr="Document.png"/>
          <p:cNvPicPr/>
          <p:nvPr/>
        </p:nvPicPr>
        <p:blipFill>
          <a:blip r:embed="rId19"/>
          <a:stretch/>
        </p:blipFill>
        <p:spPr>
          <a:xfrm>
            <a:off x="7023240" y="3886200"/>
            <a:ext cx="193680" cy="2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ons learned from HITS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 are not imposed, they are adopted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o improve adoption, solve real problems, not abstract on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Engage the community for a sense of ownership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 should be harmonized and commissioned based on clearly articulated prioriti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Governance is necessary to coordinate and prioritiz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Adoption is accelerated by tools including vocabulary registries and easy to use sources for implementation guidance.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ools improve ado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Make implementation specifications easy to use and, well, </a:t>
            </a:r>
            <a:r>
              <a:rPr b="0" i="1" lang="en-US" sz="1900" spc="-1" strike="noStrike">
                <a:solidFill>
                  <a:srgbClr val="19234a"/>
                </a:solidFill>
                <a:latin typeface="Arial"/>
              </a:rPr>
              <a:t>specific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Keep it as a simple as possible but no simpler - the parsimony principl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on’t boil the ocea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olve real focused, problem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erfection is the enemy of the good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teratively improv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66976-665C-42CF-9474-C510FC388C84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ing the work of HITS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99520" y="1186920"/>
            <a:ext cx="8494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Move toward more “computational” implementation specifications (IS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calable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Ability to develop tools to increase the efficiency of IS development and maintenanc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he importance of developing IS that are explicit and subject to less interpret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ink use cases and standards from inception to certific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Keep the certification processes tightly linked to the standards and IS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upport tool development for certification tes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velop the testing for compliance at the same time as developing the standards and I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ntegrate multiple SDOs with different expertise across the proces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ransport packag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Vocabulary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Value set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curity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63277-4583-41CA-B18E-A4A49FB952A2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Rectangle 39"/>
          <p:cNvGrpSpPr/>
          <p:nvPr/>
        </p:nvGrpSpPr>
        <p:grpSpPr>
          <a:xfrm>
            <a:off x="3103560" y="3809880"/>
            <a:ext cx="1523880" cy="1212840"/>
            <a:chOff x="3103560" y="3809880"/>
            <a:chExt cx="1523880" cy="1212840"/>
          </a:xfrm>
        </p:grpSpPr>
        <p:pic>
          <p:nvPicPr>
            <p:cNvPr id="363" name="Rectangle 39" descr=""/>
            <p:cNvPicPr/>
            <p:nvPr/>
          </p:nvPicPr>
          <p:blipFill>
            <a:blip r:embed="rId1"/>
            <a:stretch/>
          </p:blipFill>
          <p:spPr>
            <a:xfrm>
              <a:off x="3103560" y="380988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129120" y="383688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38"/>
          <p:cNvGrpSpPr/>
          <p:nvPr/>
        </p:nvGrpSpPr>
        <p:grpSpPr>
          <a:xfrm>
            <a:off x="1573200" y="2567160"/>
            <a:ext cx="1523880" cy="1212840"/>
            <a:chOff x="1573200" y="2567160"/>
            <a:chExt cx="1523880" cy="1212840"/>
          </a:xfrm>
        </p:grpSpPr>
        <p:pic>
          <p:nvPicPr>
            <p:cNvPr id="366" name="Rectangle 38" descr=""/>
            <p:cNvPicPr/>
            <p:nvPr/>
          </p:nvPicPr>
          <p:blipFill>
            <a:blip r:embed="rId2"/>
            <a:stretch/>
          </p:blipFill>
          <p:spPr>
            <a:xfrm>
              <a:off x="1573200" y="256716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595520" y="259236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ounded Rectangle 31"/>
          <p:cNvSpPr/>
          <p:nvPr/>
        </p:nvSpPr>
        <p:spPr>
          <a:xfrm>
            <a:off x="5559480" y="2405160"/>
            <a:ext cx="3178080" cy="3276360"/>
          </a:xfrm>
          <a:custGeom>
            <a:avLst/>
            <a:gdLst>
              <a:gd name="textAreaLeft" fmla="*/ 36000 w 3178080"/>
              <a:gd name="textAreaRight" fmla="*/ 3142080 w 3178080"/>
              <a:gd name="textAreaTop" fmla="*/ 36000 h 3276360"/>
              <a:gd name="textAreaBottom" fmla="*/ 3240360 h 3276360"/>
            </a:gdLst>
            <a:ahLst/>
            <a:rect l="textAreaLeft" t="textAreaTop" r="textAreaRight" b="textAreaBottom"/>
            <a:pathLst>
              <a:path w="21600" h="22268">
                <a:moveTo>
                  <a:pt x="838" y="0"/>
                </a:moveTo>
                <a:arcTo wR="838" hR="838" stAng="16200000" swAng="-5400000"/>
                <a:lnTo>
                  <a:pt x="0" y="21430"/>
                </a:lnTo>
                <a:arcTo wR="838" hR="838" stAng="10800000" swAng="-5400000"/>
                <a:lnTo>
                  <a:pt x="20762" y="22268"/>
                </a:lnTo>
                <a:arcTo wR="838" hR="838" stAng="5400000" swAng="-5400000"/>
                <a:lnTo>
                  <a:pt x="21600" y="838"/>
                </a:lnTo>
                <a:arcTo wR="838" hR="838" stAng="0" swAng="-5400000"/>
                <a:close/>
              </a:path>
            </a:pathLst>
          </a:custGeom>
          <a:gradFill rotWithShape="0">
            <a:gsLst>
              <a:gs pos="0">
                <a:srgbClr val="cfe1e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Rectangle 23"/>
          <p:cNvGrpSpPr/>
          <p:nvPr/>
        </p:nvGrpSpPr>
        <p:grpSpPr>
          <a:xfrm>
            <a:off x="3322800" y="2359080"/>
            <a:ext cx="1511280" cy="1201680"/>
            <a:chOff x="3322800" y="2359080"/>
            <a:chExt cx="1511280" cy="1201680"/>
          </a:xfrm>
        </p:grpSpPr>
        <p:pic>
          <p:nvPicPr>
            <p:cNvPr id="370" name="Rectangle 23" descr=""/>
            <p:cNvPicPr/>
            <p:nvPr/>
          </p:nvPicPr>
          <p:blipFill>
            <a:blip r:embed="rId3"/>
            <a:stretch/>
          </p:blipFill>
          <p:spPr>
            <a:xfrm>
              <a:off x="3322800" y="2359080"/>
              <a:ext cx="1511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340080" y="2379600"/>
              <a:ext cx="14731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25"/>
          <p:cNvGrpSpPr/>
          <p:nvPr/>
        </p:nvGrpSpPr>
        <p:grpSpPr>
          <a:xfrm>
            <a:off x="1573200" y="3809880"/>
            <a:ext cx="1523880" cy="1212840"/>
            <a:chOff x="1573200" y="3809880"/>
            <a:chExt cx="1523880" cy="1212840"/>
          </a:xfrm>
        </p:grpSpPr>
        <p:pic>
          <p:nvPicPr>
            <p:cNvPr id="373" name="Rectangle 25" descr=""/>
            <p:cNvPicPr/>
            <p:nvPr/>
          </p:nvPicPr>
          <p:blipFill>
            <a:blip r:embed="rId4"/>
            <a:stretch/>
          </p:blipFill>
          <p:spPr>
            <a:xfrm>
              <a:off x="1573200" y="380988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95520" y="383688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use case development within a top-down 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D5F17-EB3B-45B3-A85D-170E027B283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99520" y="1251000"/>
            <a:ext cx="849492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e2026"/>
                </a:solidFill>
                <a:latin typeface="Arial"/>
              </a:rPr>
              <a:t>NHIN Direct </a:t>
            </a:r>
            <a:r>
              <a:rPr b="1" lang="en-US" sz="2000" spc="-1" strike="noStrike">
                <a:solidFill>
                  <a:srgbClr val="246aa2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ae2026"/>
                </a:solidFill>
                <a:latin typeface="Arial"/>
              </a:rPr>
              <a:t> Interoperability Framework </a:t>
            </a:r>
            <a:r>
              <a:rPr b="0" lang="en-US" sz="2000" spc="-1" strike="noStrike">
                <a:solidFill>
                  <a:srgbClr val="246aa2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9234a"/>
                </a:solidFill>
                <a:latin typeface="Arial"/>
              </a:rPr>
              <a:t>Focused Collaboration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559480" y="2535120"/>
            <a:ext cx="308304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46aa2"/>
                </a:solidFill>
                <a:latin typeface="Arial"/>
              </a:rPr>
              <a:t>CORE PRINCIP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Priorit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Eng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Rapid Resul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3340080" y="270036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c4d19"/>
                </a:solidFill>
                <a:latin typeface="Arial"/>
              </a:rPr>
              <a:t>Foc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c4d19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3129120" y="419256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3a6269"/>
                </a:solidFill>
                <a:latin typeface="Arial"/>
              </a:rPr>
              <a:t>A Thousand Flowers B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95520" y="286380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46aa2"/>
                </a:solidFill>
                <a:latin typeface="Arial"/>
              </a:rPr>
              <a:t>Command</a:t>
            </a:r>
            <a:br>
              <a:rPr sz="1400"/>
            </a:br>
            <a:r>
              <a:rPr b="1" lang="en-US" sz="1400" spc="-1" strike="noStrike">
                <a:solidFill>
                  <a:srgbClr val="246aa2"/>
                </a:solidFill>
                <a:latin typeface="Arial"/>
              </a:rPr>
              <a:t>an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6"/>
          <p:cNvGrpSpPr/>
          <p:nvPr/>
        </p:nvGrpSpPr>
        <p:grpSpPr>
          <a:xfrm>
            <a:off x="1106640" y="5048280"/>
            <a:ext cx="4105080" cy="291960"/>
            <a:chOff x="1106640" y="5048280"/>
            <a:chExt cx="4105080" cy="291960"/>
          </a:xfrm>
        </p:grpSpPr>
        <p:grpSp>
          <p:nvGrpSpPr>
            <p:cNvPr id="383" name="Pentagon 32"/>
            <p:cNvGrpSpPr/>
            <p:nvPr/>
          </p:nvGrpSpPr>
          <p:grpSpPr>
            <a:xfrm>
              <a:off x="1578960" y="5053320"/>
              <a:ext cx="3273480" cy="286920"/>
              <a:chOff x="1578960" y="5053320"/>
              <a:chExt cx="3273480" cy="286920"/>
            </a:xfrm>
          </p:grpSpPr>
          <p:pic>
            <p:nvPicPr>
              <p:cNvPr id="384" name="Pentagon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578960" y="5053320"/>
                <a:ext cx="327348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589040" y="5067360"/>
                <a:ext cx="31834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Box 16"/>
            <p:cNvSpPr/>
            <p:nvPr/>
          </p:nvSpPr>
          <p:spPr>
            <a:xfrm>
              <a:off x="1106640" y="5048280"/>
              <a:ext cx="1472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7f7f7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17"/>
            <p:cNvSpPr/>
            <p:nvPr/>
          </p:nvSpPr>
          <p:spPr>
            <a:xfrm>
              <a:off x="3738600" y="5048280"/>
              <a:ext cx="1473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8c4d19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8"/>
          <p:cNvSpPr/>
          <p:nvPr/>
        </p:nvSpPr>
        <p:spPr>
          <a:xfrm>
            <a:off x="2482920" y="558000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e2026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5"/>
          <p:cNvGrpSpPr/>
          <p:nvPr/>
        </p:nvGrpSpPr>
        <p:grpSpPr>
          <a:xfrm>
            <a:off x="2451240" y="3093840"/>
            <a:ext cx="1370160" cy="1348200"/>
            <a:chOff x="2451240" y="3093840"/>
            <a:chExt cx="1370160" cy="1348200"/>
          </a:xfrm>
        </p:grpSpPr>
        <p:sp>
          <p:nvSpPr>
            <p:cNvPr id="390" name="Left-Right Arrow 40"/>
            <p:cNvSpPr/>
            <p:nvPr/>
          </p:nvSpPr>
          <p:spPr>
            <a:xfrm rot="2700000">
              <a:off x="2532600" y="3408840"/>
              <a:ext cx="1189080" cy="717480"/>
            </a:xfrm>
            <a:prstGeom prst="leftRightArrow">
              <a:avLst>
                <a:gd name="adj1" fmla="val 51667"/>
                <a:gd name="adj2" fmla="val 51653"/>
              </a:avLst>
            </a:prstGeom>
            <a:gradFill rotWithShape="0">
              <a:gsLst>
                <a:gs pos="0">
                  <a:srgbClr val="571013"/>
                </a:gs>
                <a:gs pos="100000">
                  <a:srgbClr val="c30b13"/>
                </a:gs>
              </a:gsLst>
              <a:lin ang="2700000"/>
            </a:gradFill>
            <a:ln w="9360">
              <a:solidFill>
                <a:srgbClr val="ad1c22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1"/>
            <p:cNvSpPr/>
            <p:nvPr/>
          </p:nvSpPr>
          <p:spPr>
            <a:xfrm rot="2517000">
              <a:off x="2399760" y="3568320"/>
              <a:ext cx="14731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Class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ade-O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Straight Connector 28"/>
          <p:cNvSpPr/>
          <p:nvPr/>
        </p:nvSpPr>
        <p:spPr>
          <a:xfrm>
            <a:off x="5859360" y="368928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29"/>
          <p:cNvSpPr/>
          <p:nvPr/>
        </p:nvSpPr>
        <p:spPr>
          <a:xfrm>
            <a:off x="5859360" y="430992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30"/>
          <p:cNvSpPr/>
          <p:nvPr/>
        </p:nvSpPr>
        <p:spPr>
          <a:xfrm>
            <a:off x="5859360" y="494496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7"/>
          <p:cNvGrpSpPr/>
          <p:nvPr/>
        </p:nvGrpSpPr>
        <p:grpSpPr>
          <a:xfrm>
            <a:off x="1238400" y="1716120"/>
            <a:ext cx="299520" cy="4106880"/>
            <a:chOff x="1238400" y="1716120"/>
            <a:chExt cx="299520" cy="4106880"/>
          </a:xfrm>
        </p:grpSpPr>
        <p:grpSp>
          <p:nvGrpSpPr>
            <p:cNvPr id="396" name="Pentagon 34"/>
            <p:cNvGrpSpPr/>
            <p:nvPr/>
          </p:nvGrpSpPr>
          <p:grpSpPr>
            <a:xfrm>
              <a:off x="1251000" y="2077200"/>
              <a:ext cx="279360" cy="3261240"/>
              <a:chOff x="1251000" y="2077200"/>
              <a:chExt cx="279360" cy="3261240"/>
            </a:xfrm>
          </p:grpSpPr>
          <p:pic>
            <p:nvPicPr>
              <p:cNvPr id="397" name="Pentagon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1000" y="2077200"/>
                <a:ext cx="279360" cy="32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 rot="16200000">
                <a:off x="-193680" y="3612240"/>
                <a:ext cx="3173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Box 35"/>
            <p:cNvSpPr/>
            <p:nvPr/>
          </p:nvSpPr>
          <p:spPr>
            <a:xfrm rot="16200000">
              <a:off x="650520" y="4943160"/>
              <a:ext cx="1467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7f7f7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36"/>
            <p:cNvSpPr/>
            <p:nvPr/>
          </p:nvSpPr>
          <p:spPr>
            <a:xfrm rot="16200000">
              <a:off x="658080" y="2304000"/>
              <a:ext cx="146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8c4d19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9"/>
          <p:cNvSpPr/>
          <p:nvPr/>
        </p:nvSpPr>
        <p:spPr>
          <a:xfrm>
            <a:off x="9360" y="354816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e2026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1" descr="iStock_000004312672XSmall_magnifyingglass.jpg"/>
          <p:cNvPicPr/>
          <p:nvPr/>
        </p:nvPicPr>
        <p:blipFill>
          <a:blip r:embed="rId7"/>
          <a:srcRect l="14525" t="16648" r="8300" b="29133"/>
          <a:stretch/>
        </p:blipFill>
        <p:spPr>
          <a:xfrm>
            <a:off x="353880" y="3938760"/>
            <a:ext cx="797040" cy="556920"/>
          </a:xfrm>
          <a:prstGeom prst="rect">
            <a:avLst/>
          </a:prstGeom>
          <a:ln w="9360">
            <a:solidFill>
              <a:srgbClr val="a6a8a3"/>
            </a:solidFill>
            <a:miter/>
          </a:ln>
        </p:spPr>
      </p:pic>
      <p:pic>
        <p:nvPicPr>
          <p:cNvPr id="403" name="Picture 43" descr="iStock_000007699915XSmall_hands_team_collaboration.jpg"/>
          <p:cNvPicPr/>
          <p:nvPr/>
        </p:nvPicPr>
        <p:blipFill>
          <a:blip r:embed="rId8"/>
          <a:stretch/>
        </p:blipFill>
        <p:spPr>
          <a:xfrm>
            <a:off x="1851120" y="5487840"/>
            <a:ext cx="784080" cy="524160"/>
          </a:xfrm>
          <a:prstGeom prst="rect">
            <a:avLst/>
          </a:prstGeom>
          <a:ln w="9360">
            <a:solidFill>
              <a:srgbClr val="a6a8a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Innovation within 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Straight Arrow Connector 4"/>
          <p:cNvCxnSpPr/>
          <p:nvPr/>
        </p:nvCxnSpPr>
        <p:spPr>
          <a:xfrm>
            <a:off x="2011320" y="3731760"/>
            <a:ext cx="24984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6" name="Straight Arrow Connector 5"/>
          <p:cNvCxnSpPr/>
          <p:nvPr/>
        </p:nvCxnSpPr>
        <p:spPr>
          <a:xfrm>
            <a:off x="3708360" y="3731760"/>
            <a:ext cx="32472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7" name="Straight Arrow Connector 6"/>
          <p:cNvCxnSpPr/>
          <p:nvPr/>
        </p:nvCxnSpPr>
        <p:spPr>
          <a:xfrm>
            <a:off x="5244840" y="3731760"/>
            <a:ext cx="43092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8" name="Straight Arrow Connector 7"/>
          <p:cNvCxnSpPr/>
          <p:nvPr/>
        </p:nvCxnSpPr>
        <p:spPr>
          <a:xfrm>
            <a:off x="6887880" y="3731760"/>
            <a:ext cx="40860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9" name="Straight Arrow Connector 8"/>
          <p:cNvCxnSpPr/>
          <p:nvPr/>
        </p:nvCxnSpPr>
        <p:spPr>
          <a:xfrm flipH="1">
            <a:off x="2980440" y="2922120"/>
            <a:ext cx="2520" cy="3067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10" name="Straight Arrow Connector 9"/>
          <p:cNvCxnSpPr/>
          <p:nvPr/>
        </p:nvCxnSpPr>
        <p:spPr>
          <a:xfrm flipH="1">
            <a:off x="6284160" y="2922480"/>
            <a:ext cx="3960" cy="35784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411" name="Rounded Rectangle 17"/>
          <p:cNvSpPr/>
          <p:nvPr/>
        </p:nvSpPr>
        <p:spPr>
          <a:xfrm>
            <a:off x="757080" y="4702320"/>
            <a:ext cx="76392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1000"/>
            </a:br>
            <a:r>
              <a:rPr b="1" lang="en-US" sz="10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5"/>
          <p:cNvGrpSpPr/>
          <p:nvPr/>
        </p:nvGrpSpPr>
        <p:grpSpPr>
          <a:xfrm>
            <a:off x="1280160" y="4143240"/>
            <a:ext cx="6624000" cy="525960"/>
            <a:chOff x="1280160" y="4143240"/>
            <a:chExt cx="6624000" cy="525960"/>
          </a:xfrm>
        </p:grpSpPr>
        <p:cxnSp>
          <p:nvCxnSpPr>
            <p:cNvPr id="413" name="Straight Arrow Connector 18"/>
            <p:cNvCxnSpPr/>
            <p:nvPr/>
          </p:nvCxnSpPr>
          <p:spPr>
            <a:xfrm flipH="1">
              <a:off x="4638240" y="4143240"/>
              <a:ext cx="216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4" name="Straight Arrow Connector 19"/>
            <p:cNvCxnSpPr/>
            <p:nvPr/>
          </p:nvCxnSpPr>
          <p:spPr>
            <a:xfrm>
              <a:off x="1280160" y="4143240"/>
              <a:ext cx="1080" cy="52488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5" name="Straight Arrow Connector 20"/>
            <p:cNvCxnSpPr/>
            <p:nvPr/>
          </p:nvCxnSpPr>
          <p:spPr>
            <a:xfrm flipH="1">
              <a:off x="2979360" y="4143240"/>
              <a:ext cx="216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6" name="Straight Arrow Connector 21"/>
            <p:cNvCxnSpPr/>
            <p:nvPr/>
          </p:nvCxnSpPr>
          <p:spPr>
            <a:xfrm>
              <a:off x="6287040" y="4143240"/>
              <a:ext cx="1080" cy="52488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7" name="Straight Arrow Connector 22"/>
            <p:cNvCxnSpPr/>
            <p:nvPr/>
          </p:nvCxnSpPr>
          <p:spPr>
            <a:xfrm flipH="1">
              <a:off x="7900920" y="4143240"/>
              <a:ext cx="360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418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9B967-A4D7-4D32-A514-CBCB5FDE228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96"/>
          <p:cNvGrpSpPr/>
          <p:nvPr/>
        </p:nvGrpSpPr>
        <p:grpSpPr>
          <a:xfrm>
            <a:off x="507960" y="3160800"/>
            <a:ext cx="1503360" cy="982440"/>
            <a:chOff x="507960" y="3160800"/>
            <a:chExt cx="1503360" cy="982440"/>
          </a:xfrm>
        </p:grpSpPr>
        <p:sp>
          <p:nvSpPr>
            <p:cNvPr id="420" name="Rounded Rectangle 10"/>
            <p:cNvSpPr/>
            <p:nvPr/>
          </p:nvSpPr>
          <p:spPr>
            <a:xfrm>
              <a:off x="507960" y="3321000"/>
              <a:ext cx="1503360" cy="822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Picture 87" descr="folder.png"/>
            <p:cNvPicPr/>
            <p:nvPr/>
          </p:nvPicPr>
          <p:blipFill>
            <a:blip r:embed="rId1"/>
            <a:stretch/>
          </p:blipFill>
          <p:spPr>
            <a:xfrm>
              <a:off x="1023480" y="3160800"/>
              <a:ext cx="44712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7"/>
          <p:cNvGrpSpPr/>
          <p:nvPr/>
        </p:nvGrpSpPr>
        <p:grpSpPr>
          <a:xfrm>
            <a:off x="2362320" y="1996920"/>
            <a:ext cx="1212840" cy="924120"/>
            <a:chOff x="2362320" y="1996920"/>
            <a:chExt cx="1212840" cy="924120"/>
          </a:xfrm>
        </p:grpSpPr>
        <p:sp>
          <p:nvSpPr>
            <p:cNvPr id="423" name="Rounded Rectangle 15"/>
            <p:cNvSpPr/>
            <p:nvPr/>
          </p:nvSpPr>
          <p:spPr>
            <a:xfrm>
              <a:off x="2362320" y="2096640"/>
              <a:ext cx="1212840" cy="8244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Standard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88" descr="tools.png"/>
            <p:cNvPicPr/>
            <p:nvPr/>
          </p:nvPicPr>
          <p:blipFill>
            <a:blip r:embed="rId2"/>
            <a:stretch/>
          </p:blipFill>
          <p:spPr>
            <a:xfrm>
              <a:off x="2784960" y="1996920"/>
              <a:ext cx="3902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02"/>
          <p:cNvGrpSpPr/>
          <p:nvPr/>
        </p:nvGrpSpPr>
        <p:grpSpPr>
          <a:xfrm>
            <a:off x="7296120" y="3211560"/>
            <a:ext cx="1212840" cy="931680"/>
            <a:chOff x="7296120" y="3211560"/>
            <a:chExt cx="1212840" cy="931680"/>
          </a:xfrm>
        </p:grpSpPr>
        <p:sp>
          <p:nvSpPr>
            <p:cNvPr id="426" name="Rounded Rectangle 14"/>
            <p:cNvSpPr/>
            <p:nvPr/>
          </p:nvSpPr>
          <p:spPr>
            <a:xfrm>
              <a:off x="7296120" y="3321000"/>
              <a:ext cx="1212840" cy="822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ertification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89" descr="computer.png"/>
            <p:cNvPicPr/>
            <p:nvPr/>
          </p:nvPicPr>
          <p:blipFill>
            <a:blip r:embed="rId3"/>
            <a:stretch/>
          </p:blipFill>
          <p:spPr>
            <a:xfrm>
              <a:off x="7688160" y="3211560"/>
              <a:ext cx="4446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99"/>
          <p:cNvGrpSpPr/>
          <p:nvPr/>
        </p:nvGrpSpPr>
        <p:grpSpPr>
          <a:xfrm>
            <a:off x="2260440" y="3255840"/>
            <a:ext cx="1447920" cy="887400"/>
            <a:chOff x="2260440" y="3255840"/>
            <a:chExt cx="1447920" cy="887400"/>
          </a:xfrm>
        </p:grpSpPr>
        <p:sp>
          <p:nvSpPr>
            <p:cNvPr id="429" name="Rounded Rectangle 11"/>
            <p:cNvSpPr/>
            <p:nvPr/>
          </p:nvSpPr>
          <p:spPr>
            <a:xfrm>
              <a:off x="2260440" y="3320640"/>
              <a:ext cx="144792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ore Concepts (NIEM framewor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90" descr="harmonize.png"/>
            <p:cNvPicPr/>
            <p:nvPr/>
          </p:nvPicPr>
          <p:blipFill>
            <a:blip r:embed="rId4"/>
            <a:stretch/>
          </p:blipFill>
          <p:spPr>
            <a:xfrm>
              <a:off x="2737440" y="3255840"/>
              <a:ext cx="47736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00"/>
          <p:cNvGrpSpPr/>
          <p:nvPr/>
        </p:nvGrpSpPr>
        <p:grpSpPr>
          <a:xfrm>
            <a:off x="4032360" y="3290760"/>
            <a:ext cx="1212840" cy="852480"/>
            <a:chOff x="4032360" y="3290760"/>
            <a:chExt cx="1212840" cy="852480"/>
          </a:xfrm>
        </p:grpSpPr>
        <p:sp>
          <p:nvSpPr>
            <p:cNvPr id="432" name="Rounded Rectangle 12"/>
            <p:cNvSpPr/>
            <p:nvPr/>
          </p:nvSpPr>
          <p:spPr>
            <a:xfrm>
              <a:off x="4032360" y="332064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91" descr="Screen shot 2010-03-10 at 2.04.54 PM.png"/>
            <p:cNvPicPr/>
            <p:nvPr/>
          </p:nvPicPr>
          <p:blipFill>
            <a:blip r:embed="rId5"/>
            <a:stretch/>
          </p:blipFill>
          <p:spPr>
            <a:xfrm>
              <a:off x="4434480" y="329076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98"/>
          <p:cNvGrpSpPr/>
          <p:nvPr/>
        </p:nvGrpSpPr>
        <p:grpSpPr>
          <a:xfrm>
            <a:off x="5578560" y="1951200"/>
            <a:ext cx="1406520" cy="969840"/>
            <a:chOff x="5578560" y="1951200"/>
            <a:chExt cx="1406520" cy="969840"/>
          </a:xfrm>
        </p:grpSpPr>
        <p:sp>
          <p:nvSpPr>
            <p:cNvPr id="435" name="Rounded Rectangle 16"/>
            <p:cNvSpPr/>
            <p:nvPr/>
          </p:nvSpPr>
          <p:spPr>
            <a:xfrm>
              <a:off x="5578560" y="2097000"/>
              <a:ext cx="140652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Pilot Demonstration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93" descr="pilot.png"/>
            <p:cNvPicPr/>
            <p:nvPr/>
          </p:nvPicPr>
          <p:blipFill>
            <a:blip r:embed="rId6"/>
            <a:stretch/>
          </p:blipFill>
          <p:spPr>
            <a:xfrm>
              <a:off x="6063480" y="1951200"/>
              <a:ext cx="476280" cy="47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101"/>
          <p:cNvGrpSpPr/>
          <p:nvPr/>
        </p:nvGrpSpPr>
        <p:grpSpPr>
          <a:xfrm>
            <a:off x="5675400" y="3279600"/>
            <a:ext cx="1212840" cy="863640"/>
            <a:chOff x="5675400" y="3279600"/>
            <a:chExt cx="1212840" cy="863640"/>
          </a:xfrm>
        </p:grpSpPr>
        <p:sp>
          <p:nvSpPr>
            <p:cNvPr id="438" name="Rounded Rectangle 13"/>
            <p:cNvSpPr/>
            <p:nvPr/>
          </p:nvSpPr>
          <p:spPr>
            <a:xfrm>
              <a:off x="5675400" y="332064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Reference Implem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94" descr="check.png"/>
            <p:cNvPicPr/>
            <p:nvPr/>
          </p:nvPicPr>
          <p:blipFill>
            <a:blip r:embed="rId7"/>
            <a:stretch/>
          </p:blipFill>
          <p:spPr>
            <a:xfrm>
              <a:off x="6121080" y="3279600"/>
              <a:ext cx="327600" cy="32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06120" y="-360"/>
            <a:ext cx="555948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Case Development and Functional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Example of a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provider wants to send a referral to a specialist electronically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Use case describes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Services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Standards (package)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Business rules, trust, policie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That are necessary to satisfy the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48320" y="1526760"/>
            <a:ext cx="40384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The process should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Engage a wide community in defining the use case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Focus on solving a real problem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Determines scop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Able to “test” if the use case solves the problem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Prevents “analysis paralysis”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Does not model in the abstract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Open, transparent proces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Establish a “use case steward” to shepherd the use cases through the entire proces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Output is a clear description (in a computable form) that describes the standards, services and policies necessary to describe the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387FE-FDA0-4596-A026-26D5BF79C994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4"/>
          <p:cNvCxnSpPr>
            <a:stCxn id="445" idx="3"/>
            <a:endCxn id="44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47" name="Straight Arrow Connector 5"/>
          <p:cNvCxnSpPr>
            <a:stCxn id="446" idx="3"/>
            <a:endCxn id="44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49" name="Straight Arrow Connector 6"/>
          <p:cNvCxnSpPr>
            <a:stCxn id="448" idx="3"/>
            <a:endCxn id="45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51" name="Straight Arrow Connector 7"/>
          <p:cNvCxnSpPr>
            <a:stCxn id="450" idx="3"/>
            <a:endCxn id="45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53" name="Straight Arrow Connector 8"/>
          <p:cNvCxnSpPr>
            <a:stCxn id="45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455" name="Straight Arrow Connector 9"/>
          <p:cNvCxnSpPr>
            <a:stCxn id="45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44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45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45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44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44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45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45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grpSp>
        <p:nvGrpSpPr>
          <p:cNvPr id="464" name="Group 79"/>
          <p:cNvGrpSpPr/>
          <p:nvPr/>
        </p:nvGrpSpPr>
        <p:grpSpPr>
          <a:xfrm>
            <a:off x="136440" y="0"/>
            <a:ext cx="1501920" cy="903240"/>
            <a:chOff x="136440" y="0"/>
            <a:chExt cx="1501920" cy="903240"/>
          </a:xfrm>
        </p:grpSpPr>
        <p:sp>
          <p:nvSpPr>
            <p:cNvPr id="465" name="Rounded Rectangle 77"/>
            <p:cNvSpPr/>
            <p:nvPr/>
          </p:nvSpPr>
          <p:spPr>
            <a:xfrm>
              <a:off x="136440" y="147600"/>
              <a:ext cx="1501920" cy="755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246aa2"/>
                </a:gs>
                <a:gs pos="100000">
                  <a:srgbClr val="123551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d Functional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Picture 78" descr="folder.png"/>
            <p:cNvPicPr/>
            <p:nvPr/>
          </p:nvPicPr>
          <p:blipFill>
            <a:blip r:embed="rId8"/>
            <a:stretch/>
          </p:blipFill>
          <p:spPr>
            <a:xfrm>
              <a:off x="650880" y="0"/>
              <a:ext cx="411120" cy="3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0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1" name="Straight Arrow Connector 57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2" name="Straight Arrow Connector 58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Core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Need to have a strong harmonization framework that spans different standards organiza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XML/UML computational descriptions of the use ca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rong governance and transparent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Use-case driven (bottom up) with top down coordin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Harmonization processes need to describ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olici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n standard way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3DF6D-2886-45DB-A51C-6066E5D3775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4"/>
          <p:cNvCxnSpPr>
            <a:stCxn id="477" idx="3"/>
            <a:endCxn id="478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79" name="Straight Arrow Connector 5"/>
          <p:cNvCxnSpPr>
            <a:stCxn id="478" idx="3"/>
            <a:endCxn id="480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1" name="Straight Arrow Connector 6"/>
          <p:cNvCxnSpPr>
            <a:stCxn id="480" idx="3"/>
            <a:endCxn id="482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3" name="Straight Arrow Connector 7"/>
          <p:cNvCxnSpPr>
            <a:stCxn id="482" idx="3"/>
            <a:endCxn id="484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5" name="Straight Arrow Connector 8"/>
          <p:cNvCxnSpPr>
            <a:stCxn id="486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487" name="Straight Arrow Connector 9"/>
          <p:cNvCxnSpPr>
            <a:stCxn id="488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477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484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478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480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488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482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496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Multiple use cases might have overlapping standards, services or policies</a:t>
            </a: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E-prescribing and adverse event repor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linical care summary and quality repor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aboratory data exchange and clinical decision support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99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1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2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3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Core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48320" y="1526760"/>
            <a:ext cx="40384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Standards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everage best practic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Use the NIEM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reate explicit data exchange package that describe the data elements, vocabularies and value set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Service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everage services aware enterprise framework (SAEF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nformation model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 descri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onformance descri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Governance (business rules) descrip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Policy descrip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Harmonization of policies is a challeng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87E4C-AAA6-437B-AFDB-431AB6068A9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4"/>
          <p:cNvCxnSpPr>
            <a:stCxn id="509" idx="3"/>
            <a:endCxn id="510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1" name="Straight Arrow Connector 5"/>
          <p:cNvCxnSpPr>
            <a:stCxn id="510" idx="3"/>
            <a:endCxn id="512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3" name="Straight Arrow Connector 6"/>
          <p:cNvCxnSpPr>
            <a:stCxn id="512" idx="3"/>
            <a:endCxn id="514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5" name="Straight Arrow Connector 7"/>
          <p:cNvCxnSpPr>
            <a:stCxn id="514" idx="3"/>
            <a:endCxn id="516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7" name="Straight Arrow Connector 8"/>
          <p:cNvCxnSpPr>
            <a:stCxn id="518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519" name="Straight Arrow Connector 9"/>
          <p:cNvCxnSpPr>
            <a:stCxn id="520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509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518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516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510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512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520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514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Three parts to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standards (the data that is exchanged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services (the functions that will be supported in the exchange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policy (trust, business rules, etc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31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3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4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5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6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NIEM proces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National Information Exchange Mod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tarted as a DoJ initiative, but the processes have been generalized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upported data integration and reporting for Recovery.gov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Used by HHS to support child and family servic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Recommended by OMB as best practic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Used by state and local governmen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D8AF4-59D0-4458-9C78-3FD21B23FAC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Straight Arrow Connector 4"/>
          <p:cNvCxnSpPr>
            <a:stCxn id="541" idx="3"/>
            <a:endCxn id="542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3" name="Straight Arrow Connector 5"/>
          <p:cNvCxnSpPr>
            <a:stCxn id="542" idx="3"/>
            <a:endCxn id="544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5" name="Straight Arrow Connector 6"/>
          <p:cNvCxnSpPr>
            <a:stCxn id="544" idx="3"/>
            <a:endCxn id="546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7" name="Straight Arrow Connector 7"/>
          <p:cNvCxnSpPr>
            <a:stCxn id="546" idx="3"/>
            <a:endCxn id="548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9" name="Straight Arrow Connector 8"/>
          <p:cNvCxnSpPr>
            <a:stCxn id="550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551" name="Straight Arrow Connector 9"/>
          <p:cNvCxnSpPr>
            <a:stCxn id="552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541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548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542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544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552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546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60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2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3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4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5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6" name="Rounded Rectangle 46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9"/>
          <p:cNvGrpSpPr/>
          <p:nvPr/>
        </p:nvGrpSpPr>
        <p:grpSpPr>
          <a:xfrm>
            <a:off x="601560" y="3117960"/>
            <a:ext cx="3392640" cy="3351240"/>
            <a:chOff x="601560" y="3117960"/>
            <a:chExt cx="3392640" cy="3351240"/>
          </a:xfrm>
        </p:grpSpPr>
        <p:pic>
          <p:nvPicPr>
            <p:cNvPr id="569" name="Picture 3" descr="Screen shot 2010-03-12 at 1.54.31 PM.png"/>
            <p:cNvPicPr/>
            <p:nvPr/>
          </p:nvPicPr>
          <p:blipFill>
            <a:blip r:embed="rId9"/>
            <a:stretch/>
          </p:blipFill>
          <p:spPr>
            <a:xfrm>
              <a:off x="601560" y="3117960"/>
              <a:ext cx="3392640" cy="33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4"/>
            <p:cNvSpPr/>
            <p:nvPr/>
          </p:nvSpPr>
          <p:spPr>
            <a:xfrm>
              <a:off x="1800000" y="372132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ov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5"/>
            <p:cNvSpPr/>
            <p:nvPr/>
          </p:nvSpPr>
          <p:spPr>
            <a:xfrm>
              <a:off x="2806560" y="49039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6"/>
            <p:cNvSpPr/>
            <p:nvPr/>
          </p:nvSpPr>
          <p:spPr>
            <a:xfrm>
              <a:off x="772200" y="4822920"/>
              <a:ext cx="6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ha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Box 7"/>
            <p:cNvSpPr/>
            <p:nvPr/>
          </p:nvSpPr>
          <p:spPr>
            <a:xfrm>
              <a:off x="657360" y="4302720"/>
              <a:ext cx="98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 look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8"/>
            <p:cNvSpPr/>
            <p:nvPr/>
          </p:nvSpPr>
          <p:spPr>
            <a:xfrm>
              <a:off x="3215520" y="4337280"/>
              <a:ext cx="6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mains</a:t>
              </a:r>
              <a:r>
                <a:rPr b="0" lang="en-US" sz="5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9"/>
            <p:cNvSpPr/>
            <p:nvPr/>
          </p:nvSpPr>
          <p:spPr>
            <a:xfrm>
              <a:off x="2504160" y="3908160"/>
              <a:ext cx="84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rescri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0"/>
            <p:cNvSpPr/>
            <p:nvPr/>
          </p:nvSpPr>
          <p:spPr>
            <a:xfrm>
              <a:off x="1059480" y="3908160"/>
              <a:ext cx="6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 da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11"/>
            <p:cNvSpPr/>
            <p:nvPr/>
          </p:nvSpPr>
          <p:spPr>
            <a:xfrm>
              <a:off x="953640" y="5433480"/>
              <a:ext cx="6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12"/>
            <p:cNvSpPr/>
            <p:nvPr/>
          </p:nvSpPr>
          <p:spPr>
            <a:xfrm>
              <a:off x="1591920" y="5694480"/>
              <a:ext cx="1036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summ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13"/>
            <p:cNvSpPr/>
            <p:nvPr/>
          </p:nvSpPr>
          <p:spPr>
            <a:xfrm>
              <a:off x="2584080" y="5333040"/>
              <a:ext cx="62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ild 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mi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14"/>
            <p:cNvSpPr/>
            <p:nvPr/>
          </p:nvSpPr>
          <p:spPr>
            <a:xfrm>
              <a:off x="1818360" y="4668120"/>
              <a:ext cx="6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5:24:07Z</dcterms:created>
  <dc:creator>Shannon Leigh</dc:creator>
  <dc:description/>
  <dc:language>en-US</dc:language>
  <cp:lastModifiedBy>USER</cp:lastModifiedBy>
  <dcterms:modified xsi:type="dcterms:W3CDTF">2010-03-24T19:18:02Z</dcterms:modified>
  <cp:revision>72</cp:revision>
  <dc:subject/>
  <dc:title>NHIN Overview</dc:title>
</cp:coreProperties>
</file>